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259-8581-406A-92C6-3896A81F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34D-08D1-49D5-97D0-652411A5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A4E-598A-44E0-9723-CA77DFA4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25B-B268-4F91-8E4A-815517F4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FE7-1EB4-4194-8649-96945E22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1F2-35A7-4614-8FFD-6827583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297-3DD2-4666-92B8-DB35BF6C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C57-72C1-42A2-99E2-4FDD9BFD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83C-94D9-4DA2-B899-C5A8A887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457-7A9C-410B-80FF-7AC38958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87D-2951-4C87-9352-79DE9705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66A-7908-4896-AE3F-458CF5D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FB2F-5DE0-4F83-B4C6-8D8227334E1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Narrow"/>
              </a:rPr>
              <a:t>Target Mark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AU" sz="4000" spc="-1" strike="noStrike">
                <a:solidFill>
                  <a:srgbClr val="00cc99"/>
                </a:solidFill>
                <a:latin typeface="Arial Narrow"/>
              </a:rPr>
              <a:t>The potential </a:t>
            </a:r>
            <a:r>
              <a:rPr b="1" lang="en-US" sz="4000" spc="-1" strike="noStrike">
                <a:solidFill>
                  <a:srgbClr val="00cc99"/>
                </a:solidFill>
                <a:latin typeface="Arial Narrow"/>
              </a:rPr>
              <a:t>customer </a:t>
            </a:r>
            <a:r>
              <a:rPr b="1" lang="en-AU" sz="4000" spc="-1" strike="noStrike">
                <a:solidFill>
                  <a:srgbClr val="00cc99"/>
                </a:solidFill>
                <a:latin typeface="Arial Narrow"/>
              </a:rPr>
              <a:t>gro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cc99"/>
                </a:solidFill>
                <a:latin typeface="Arial Narrow"/>
                <a:ea typeface="Times New Roman"/>
              </a:rPr>
              <a:t>        </a:t>
            </a:r>
            <a:r>
              <a:rPr b="0" lang="en-AU" sz="4000" spc="-1" strike="noStrike">
                <a:solidFill>
                  <a:srgbClr val="00cc99"/>
                </a:solidFill>
                <a:latin typeface="Arial Narrow"/>
                <a:ea typeface="Times New Roman"/>
              </a:rPr>
              <a:t>to which all retail activities are        directed in an effort to attract them!</a:t>
            </a:r>
            <a:r>
              <a:rPr b="0" lang="en-A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9760" y="4723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Arial Rounded MT Bold"/>
              </a:rPr>
              <a:t>Who are my customers?</a:t>
            </a:r>
            <a:br>
              <a:rPr sz="3600"/>
            </a:br>
            <a:r>
              <a:rPr b="0" lang="en-US" sz="2000" spc="-1" strike="noStrike">
                <a:solidFill>
                  <a:srgbClr val="00ccff"/>
                </a:solidFill>
                <a:latin typeface="Arial Rounded MT Bold"/>
              </a:rPr>
              <a:t>Make sure the messages are consistent in your windows and in any advertising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C:\Documents and Settings\Tanya\My Documents\My Pictures\atlantic+city+2[1].JPG"/>
          <p:cNvPicPr/>
          <p:nvPr/>
        </p:nvPicPr>
        <p:blipFill>
          <a:blip r:embed="rId1"/>
          <a:stretch/>
        </p:blipFill>
        <p:spPr>
          <a:xfrm>
            <a:off x="2500200" y="357120"/>
            <a:ext cx="3402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1680" y="-4898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ost retailers cannot hope to sell to all the individuals  in their marketplac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fore, marketers seek to identify particular groups of customers whose wants they feel they can most completely and accurately satisf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re Image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The impression given to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of the entire stor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including presentation, the typ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brand of goods, the store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and merchandising, fixtu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fittings, décor and staff.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Rounded MT Bold"/>
              </a:rPr>
              <a:t>Image</a:t>
            </a:r>
            <a:r>
              <a:rPr b="0" lang="en-US" sz="5400" spc="-1" strike="noStrike">
                <a:solidFill>
                  <a:srgbClr val="ff3300"/>
                </a:solidFill>
                <a:latin typeface="Arial Rounded MT Bold"/>
              </a:rPr>
              <a:t> is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 Rounded MT Bold"/>
              </a:rPr>
              <a:t>Impact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The way in which the store is defined in the shoppers mind, comes from both the functional qualities and the psychological effect of the atmosphere you crea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200480" y="2743200"/>
          <a:ext cx="7430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2743200"/>
                    <a:ext cx="743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4" descr="C:\Documents and Settings\Tanya\Application Data\Microsoft\Media Catalog\CP_room.jpg"/>
          <p:cNvPicPr/>
          <p:nvPr/>
        </p:nvPicPr>
        <p:blipFill>
          <a:blip r:embed="rId3"/>
          <a:stretch/>
        </p:blipFill>
        <p:spPr>
          <a:xfrm>
            <a:off x="2286000" y="1522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Retailers are hoping to attract customers  by creating a specific and definite perception in people’s minds as to what they do and what they stan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Rounded MT Bold"/>
              </a:rPr>
              <a:t>Demograph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Demography is the statistical study of human population and it’s distrib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4648320" y="2773440"/>
            <a:ext cx="3809880" cy="252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Australian demographic tr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ging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ngl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ltural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conomic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mploymen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mpetitive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Quality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hysical fitness,nutrition and well 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ire for convenience and premium 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anging gender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3:57:48Z</dcterms:created>
  <dc:creator>tscrivener</dc:creator>
  <dc:description/>
  <dc:language>en-US</dc:language>
  <cp:lastModifiedBy>tscrivener</cp:lastModifiedBy>
  <dcterms:modified xsi:type="dcterms:W3CDTF">2012-02-03T08:58:14Z</dcterms:modified>
  <cp:revision>6</cp:revision>
  <dc:subject/>
  <dc:title>Target Market</dc:title>
</cp:coreProperties>
</file>